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C95A-DB08-4559-95B5-DCA4BC1E9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076B-01E2-4714-A8C0-FD93DD66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6066-9E77-4AD6-BB5A-273C5284B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EE62-B7E0-44D4-8CDD-FA6460F47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767E-66A5-4B57-8329-060FD715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15F4-B179-439E-B566-78D05AE3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EEF8-24C7-4B7E-8654-C6221F9E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6479-AA03-4EA7-B136-7D17F698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681D-AB36-42FF-8158-D4CCB218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84EF-732F-473B-92E2-FE708E23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2FD8-B3C1-49F7-8ED5-109BBB8A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34A6-4E39-4B9B-BE89-459F4362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A626-6F8F-45BE-B732-2DF5D7B28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forms F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s of investigations 1 an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9092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457200" y="-2133720"/>
            <a:ext cx="9753480" cy="146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2743200" y="-1447920"/>
            <a:ext cx="1463040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29:26Z</dcterms:created>
  <dc:creator>lyoder</dc:creator>
  <dc:description/>
  <dc:language>en-US</dc:language>
  <cp:lastModifiedBy>lyoder</cp:lastModifiedBy>
  <dcterms:modified xsi:type="dcterms:W3CDTF">2007-09-17T01:29:50Z</dcterms:modified>
  <cp:revision>1</cp:revision>
  <dc:subject/>
  <dc:title>Landforms FOSS</dc:title>
</cp:coreProperties>
</file>